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DF3-296B-40B6-A2F4-3E0DD5A4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797-646D-41CA-BE84-DED6B10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106-1DAD-4B2A-8EB1-2CD990C7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01D-05C3-4107-8A0D-D34A54B1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A529-17A3-43ED-BB41-277EFCD7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6C4-7966-4D43-B916-F2101193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EFA-FB17-4221-9561-94990AB9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D2FC-E137-4A8D-BEE2-EBCDFB38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BB5E-8065-444B-8F17-E4D18F9A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49C2-9C67-464F-8CC1-F9BC9E3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B9C2-AEAA-40A2-8CC9-B1BB25B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DF2-8B1D-439A-BCDC-39D08E6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372-E4F6-4300-A964-1707DB5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CBF5-8329-4828-B3DC-D3F4001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61C7-ACE5-4DF8-AF8F-D8A583B5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5BC-E536-4238-BF8E-1A075E95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0B96-624B-4930-AE08-AD3F7A8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6C9-5646-4F8D-8545-68E4EFAD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82E-B33A-4DA3-AD12-AB5BD46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F4D-6865-4190-A2F7-F1BBC6F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4B5-7541-4997-93AC-0F3472D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B40-3476-4C6B-89B9-FC31FC2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403-1CBB-4AED-91C7-CE10046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F58-104D-424E-A012-835A700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1B6-BCC0-42A1-B59F-1CAC5FD00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ADC-4242-4B84-A2E4-8286D864FB32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32000" y="3141720"/>
            <a:ext cx="547848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знакомление детей с птицами инозем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ара"/>
          <p:cNvPicPr/>
          <p:nvPr/>
        </p:nvPicPr>
        <p:blipFill>
          <a:blip r:embed="rId1"/>
          <a:stretch/>
        </p:blipFill>
        <p:spPr>
          <a:xfrm>
            <a:off x="684360" y="3357720"/>
            <a:ext cx="227628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сновополагающий вопрос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Arial"/>
              </a:rPr>
              <a:t>Каких птиц можно содержать в условиях ДО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gb44[1]"/>
          <p:cNvPicPr/>
          <p:nvPr/>
        </p:nvPicPr>
        <p:blipFill>
          <a:blip r:embed="rId1"/>
          <a:stretch/>
        </p:blipFill>
        <p:spPr>
          <a:xfrm>
            <a:off x="2843280" y="4292640"/>
            <a:ext cx="3638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Дидактические цели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778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Формирование компетентности в области экологического образования детей, классификации птиц, их характеристики, подбора и ух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Формирование интереса к птицам иноземного происхождения, содержащихся в условиях ДО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Развитие самостоятельности в поиске теоретического и практического матери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Развитие исследовательских ум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Методические задачи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ъяснить требования, предъявляемые при подборе декоративных пт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казать практическое значение изучения данной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учить самостоятельно ориентироваться в литературном многообразии при подборе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формировать представления о различных видах декоративных птиц, которые можно размещать в уголке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учить использовать средства ИКТ для создания и преподнесе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Проблемные вопросы (темы индивидуальных проектов)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640" y="2205000"/>
            <a:ext cx="6554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Каково значение птиц? Биоэкологическая характеристика класса птиц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исеева М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SC00842"/>
          <p:cNvPicPr/>
          <p:nvPr/>
        </p:nvPicPr>
        <p:blipFill>
          <a:blip r:embed="rId1"/>
          <a:stretch/>
        </p:blipFill>
        <p:spPr>
          <a:xfrm>
            <a:off x="900000" y="357336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190440"/>
            <a:ext cx="69868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Экологический паспорт певчих и декоративных п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ибкова Е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6664"/>
          <p:cNvPicPr/>
          <p:nvPr/>
        </p:nvPicPr>
        <p:blipFill>
          <a:blip r:embed="rId1"/>
          <a:stretch/>
        </p:blipFill>
        <p:spPr>
          <a:xfrm>
            <a:off x="2700360" y="2924280"/>
            <a:ext cx="2890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1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содержать и ухаживать за птицами в уголке природы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одыгина Тат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Изображение 068"/>
          <p:cNvPicPr/>
          <p:nvPr/>
        </p:nvPicPr>
        <p:blipFill>
          <a:blip r:embed="rId1"/>
          <a:stretch/>
        </p:blipFill>
        <p:spPr>
          <a:xfrm>
            <a:off x="2771640" y="2708280"/>
            <a:ext cx="2595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75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250"/>
                            </p:stCondLst>
                            <p:childTnLst>
                              <p:par>
                                <p:cTn id="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190080"/>
            <a:ext cx="7058160" cy="20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осуществить подбор певчих и декоративных птиц в разных возрастных группах ДОУ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2997360"/>
            <a:ext cx="6626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Вахнина Ю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Изображение 077"/>
          <p:cNvPicPr/>
          <p:nvPr/>
        </p:nvPicPr>
        <p:blipFill>
          <a:blip r:embed="rId1"/>
          <a:stretch/>
        </p:blipFill>
        <p:spPr>
          <a:xfrm>
            <a:off x="3203640" y="3573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знакомить дошкольников разных возрастных групп с декоративными птицами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3141360"/>
            <a:ext cx="70581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Прошева Окс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SC02606"/>
          <p:cNvPicPr/>
          <p:nvPr/>
        </p:nvPicPr>
        <p:blipFill>
          <a:blip r:embed="rId1"/>
          <a:stretch/>
        </p:blipFill>
        <p:spPr>
          <a:xfrm>
            <a:off x="5508720" y="2565360"/>
            <a:ext cx="2562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7:05:01Z</dcterms:created>
  <dc:creator>User</dc:creator>
  <dc:description/>
  <dc:language>en-US</dc:language>
  <cp:lastModifiedBy>Serg</cp:lastModifiedBy>
  <dcterms:modified xsi:type="dcterms:W3CDTF">2010-07-08T15:05:18Z</dcterms:modified>
  <cp:revision>3</cp:revision>
  <dc:subject/>
  <dc:title>Тема проекта:</dc:title>
</cp:coreProperties>
</file>